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2833D5-8077-4AE1-9B1A-4A2DFA2E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C03B6E-AFA2-4373-82AE-D7D84438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38160" y="4419360"/>
            <a:ext cx="514368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35360" cy="347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0302DD-99E8-4A59-8ED3-77132FD60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54800" cy="34894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4560" y="4420800"/>
            <a:ext cx="5149800" cy="419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7BD-880F-4C8F-A811-1F86B38C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65B-D5FB-4B7E-964F-9AEFFC25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B4A-6CF4-4A3E-A69A-7DCD50F2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7FA-5B9A-4142-BB1B-A5E19E2B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D02B-1C7C-4654-BB69-57EE37B8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F94B-3349-4E7E-AE34-B257E0EA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1B4E-42BF-414A-9CD3-9E90E301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2439-924E-4845-8891-4EC2C6BD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F0D6-EDF5-4E50-B569-4E44F0C5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DD41-8F23-4C65-B5CA-714F60F9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39BF-783C-4359-A392-209F85E1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3B3-52F4-4FD8-89E0-5682906C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BE9E-AE73-4B4A-957F-48683C5A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0D7B-9E41-4683-A6B3-9CB10D95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C046-38AF-4FD3-BB36-99736F75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58AC-2905-40EE-AFEC-CF52E099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3626-4158-4E83-AC6F-F1C2B8CA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DCF-0210-40A0-9A3C-E0B69442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76A-1497-437F-BA36-C0FB8738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24A-B89B-4FF7-8BBC-485A62E2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3B8-8F8B-49E9-9941-DA98119D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793-1667-469F-B558-8B9715E5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B8A-1363-4BDF-B808-4173862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2EB-994B-4D57-8810-94D17104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C5B4-21FF-44A9-B5FD-D00429D809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8C4E-F999-4916-9D5B-9B949875AF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6400" y="1200240"/>
            <a:ext cx="853920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ffcc66"/>
                </a:solidFill>
                <a:latin typeface="Arial"/>
                <a:ea typeface="Arial"/>
              </a:rPr>
              <a:t>The Rigor and Relevance Framework</a:t>
            </a:r>
            <a:endParaRPr b="0" lang="en-US" sz="73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20680" y="596592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066680"/>
            <a:ext cx="0" cy="4926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9760" y="1111320"/>
            <a:ext cx="7779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KNOWL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5950080"/>
            <a:ext cx="4343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P P L I C A T I O 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1080" y="1108080"/>
            <a:ext cx="0" cy="484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20680" y="361152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8200" y="4133880"/>
            <a:ext cx="958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75320" y="4097160"/>
            <a:ext cx="936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73880" y="1276200"/>
            <a:ext cx="1006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08080" y="1357200"/>
            <a:ext cx="10051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6469200"/>
            <a:ext cx="59421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8600" y="1063800"/>
            <a:ext cx="0" cy="4721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1720" y="343080"/>
            <a:ext cx="69721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Rigor/Relevance Frame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434880"/>
            <a:ext cx="80010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Knowledge Taxonomy-(Bloom’s)</a:t>
            </a:r>
            <a:endParaRPr b="0" lang="en-US" sz="37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2280" y="571680"/>
            <a:ext cx="8024760" cy="936360"/>
          </a:xfrm>
          <a:prstGeom prst="roundRect">
            <a:avLst>
              <a:gd name="adj" fmla="val 11250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50800" y="5286240"/>
            <a:ext cx="5257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 </a:t>
            </a: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1.  Knowledg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97160" y="4653000"/>
            <a:ext cx="4903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2. Comprehension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87440" y="3983040"/>
            <a:ext cx="3726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3. Application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7960" y="3313080"/>
            <a:ext cx="3005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4. Analysi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92120" y="2643120"/>
            <a:ext cx="335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5. Synthesi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93920" y="1974960"/>
            <a:ext cx="35319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6. Evaluation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80960" y="694800"/>
            <a:ext cx="6816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396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Application Model</a:t>
            </a:r>
            <a:endParaRPr b="0" lang="en-US" sz="37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5200" y="1221840"/>
            <a:ext cx="79200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360" tIns="46800" bIns="46800" anchor="ctr">
            <a:normAutofit/>
          </a:bodyPr>
          <a:p>
            <a:pPr marL="360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1   Knowledge of one discipl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60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2   Application within discipl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60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3   Application across 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discipli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60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4   Application to real-world 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predictable situa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60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5   Application to real-world 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</a:rPr>
              <a:t>	</a:t>
            </a: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unpredictable situation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34880"/>
            <a:ext cx="7467480" cy="936720"/>
          </a:xfrm>
          <a:prstGeom prst="roundRect">
            <a:avLst>
              <a:gd name="adj" fmla="val 11250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19520" y="4952880"/>
            <a:ext cx="5029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066680"/>
            <a:ext cx="4572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4320" rIns="184320" tIns="92160" bIns="92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86680" y="6095880"/>
            <a:ext cx="3735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3352680"/>
            <a:ext cx="5076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3809880"/>
            <a:ext cx="7617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0960" y="380988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692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864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65840" y="152280"/>
            <a:ext cx="6853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Rigor/Relevance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5238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aluation 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13372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nthesis 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266688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ysis 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32004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lication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809880"/>
            <a:ext cx="205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prehension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343400"/>
            <a:ext cx="160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wareness 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17524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imi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35812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17524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ap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35812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qui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4876920"/>
            <a:ext cx="91440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876920"/>
            <a:ext cx="1066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npredictable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predictable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876920"/>
            <a:ext cx="1143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across discip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20680" y="596736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142640" y="1482840"/>
            <a:ext cx="17640" cy="4508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200" y="1130400"/>
            <a:ext cx="77652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184680" tIns="89280" bIns="8928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5400" y="5956200"/>
            <a:ext cx="38876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184680" tIns="89280" bIns="8928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22880" y="1517760"/>
            <a:ext cx="0" cy="4438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20680" y="361620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3911760"/>
            <a:ext cx="965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40360" y="3875040"/>
            <a:ext cx="936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2200" y="1428840"/>
            <a:ext cx="1008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19120" y="1527120"/>
            <a:ext cx="1008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4280" y="6473880"/>
            <a:ext cx="5940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31840" y="1061640"/>
            <a:ext cx="0" cy="47228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1080" y="-12600"/>
            <a:ext cx="697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65240" y="4540320"/>
            <a:ext cx="2124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ach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31920" y="581040"/>
            <a:ext cx="6973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3900" spc="-1" strike="noStrike">
                <a:solidFill>
                  <a:srgbClr val="ffffff"/>
                </a:solidFill>
                <a:latin typeface="Arial"/>
                <a:ea typeface="Arial"/>
              </a:rPr>
              <a:t>Teacher/Student Ro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65240" y="2039760"/>
            <a:ext cx="212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n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80040" y="2039760"/>
            <a:ext cx="3249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nk &amp; 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51360" y="4540320"/>
            <a:ext cx="16606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19000" y="1531800"/>
            <a:ext cx="7258320" cy="4719600"/>
          </a:xfrm>
          <a:prstGeom prst="rect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/>
          </a:bodyPr>
          <a:p>
            <a:pPr marL="57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ad a paragraph from a tourist brochure and plot the 10 most popular cities in France to visit on the map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9000" y="1531800"/>
            <a:ext cx="7166160" cy="4114800"/>
          </a:xfrm>
          <a:prstGeom prst="rect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/>
          </a:bodyPr>
          <a:p>
            <a:pPr marL="57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Lucida Grande"/>
              </a:rPr>
              <a:t>Choose six cities that you like and plan and design a two week trip.  Include details of things to visit, hotels and restaurants and plot your trip on a ma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31800"/>
            <a:ext cx="7391520" cy="4719600"/>
          </a:xfrm>
          <a:prstGeom prst="rect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 fontScale="98000"/>
          </a:bodyPr>
          <a:p>
            <a:pPr marL="5601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Lucida Grande"/>
              </a:rPr>
              <a:t>Do research on cities and regions of France according to types of activities and weather you prefer. Create a 10 slide powerpoint to share your trip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258320" cy="4572000"/>
          </a:xfrm>
          <a:prstGeom prst="rect">
            <a:avLst/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/>
          </a:bodyPr>
          <a:p>
            <a:pPr marL="57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Lucida Grande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Lucida Grande"/>
              </a:rPr>
              <a:t>There is a group of 15 people of various ages and preferences.  Plan the best two-week trip for this group considering and negotiating these preferences. Create a marketing brochure to inform and persuade th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20680" y="596592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1066680"/>
            <a:ext cx="0" cy="4926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9760" y="1111320"/>
            <a:ext cx="7779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KNOWL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5950080"/>
            <a:ext cx="4343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P P L I C A T I O 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21080" y="1108080"/>
            <a:ext cx="0" cy="484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20680" y="361152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78200" y="4133880"/>
            <a:ext cx="958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75320" y="4097160"/>
            <a:ext cx="936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73880" y="1276200"/>
            <a:ext cx="1006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08080" y="1357200"/>
            <a:ext cx="10051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6469200"/>
            <a:ext cx="59421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28600" y="1063800"/>
            <a:ext cx="0" cy="4721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71720" y="343080"/>
            <a:ext cx="69721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Rigor/Relevance Frame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5943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50292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Dr. Willard R. Dagget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1524240" cy="1519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773280"/>
            <a:ext cx="85341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International Center for Leadership in Educ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oni Theisen</a:t>
            </a: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 High Schoo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ompson School Distric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, C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70-482-260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akar95@verinet.com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581280" y="1142640"/>
            <a:ext cx="4953240" cy="4800600"/>
            <a:chOff x="3581280" y="1142640"/>
            <a:chExt cx="4953240" cy="4800600"/>
          </a:xfrm>
        </p:grpSpPr>
        <p:sp>
          <p:nvSpPr>
            <p:cNvPr id="96" name=""/>
            <p:cNvSpPr/>
            <p:nvPr/>
          </p:nvSpPr>
          <p:spPr>
            <a:xfrm flipV="1">
              <a:off x="3581280" y="1141920"/>
              <a:ext cx="4953240" cy="4800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491200">
              <a:off x="4836960" y="2011680"/>
              <a:ext cx="2409840" cy="1324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espectfu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99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07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491200">
              <a:off x="4805280" y="1954440"/>
              <a:ext cx="2409840" cy="116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Positive and Caring Environm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10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18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491200">
              <a:off x="4830840" y="1949400"/>
              <a:ext cx="2409840" cy="1324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ud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ho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21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29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491200">
              <a:off x="4830480" y="1950480"/>
              <a:ext cx="2409840" cy="1321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 Narrow"/>
                </a:rPr>
                <a:t>Stud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 Narrow"/>
                </a:rPr>
                <a:t>Engageme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32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40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91200">
              <a:off x="4770000" y="1960560"/>
              <a:ext cx="2409840" cy="945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 Narrow"/>
                </a:rPr>
                <a:t>Rigor and Relevanc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43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51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491200">
              <a:off x="4853880" y="1946520"/>
              <a:ext cx="2409840" cy="1470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igher Expectations for a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54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162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491200">
              <a:off x="4781520" y="1958400"/>
              <a:ext cx="2409840" cy="1014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Narrow"/>
                </a:rPr>
                <a:t>Greater Stu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Narrow"/>
                </a:rPr>
                <a:t>Achieve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165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0:34:48Z</dcterms:created>
  <dc:creator>Ray McNulty</dc:creator>
  <dc:description/>
  <dc:language>en-US</dc:language>
  <cp:lastModifiedBy>Toni Theisen</cp:lastModifiedBy>
  <dcterms:modified xsi:type="dcterms:W3CDTF">2006-10-15T21:03:39Z</dcterms:modified>
  <cp:revision>189</cp:revision>
  <dc:subject/>
  <dc:title>Slide 1</dc:title>
</cp:coreProperties>
</file>